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33.png" ContentType="image/png"/>
  <Override PartName="/ppt/media/image10.png" ContentType="image/png"/>
  <Override PartName="/ppt/media/image5.wmf" ContentType="image/x-wmf"/>
  <Override PartName="/ppt/media/image34.png" ContentType="image/png"/>
  <Override PartName="/ppt/media/image39.png" ContentType="image/png"/>
  <Override PartName="/ppt/media/image9.png" ContentType="image/png"/>
  <Override PartName="/ppt/media/image35.png" ContentType="image/png"/>
  <Override PartName="/ppt/media/image36.png" ContentType="image/png"/>
  <Override PartName="/ppt/media/image7.wmf" ContentType="image/x-wmf"/>
  <Override PartName="/ppt/media/image12.png" ContentType="image/png"/>
  <Override PartName="/ppt/media/image13.png" ContentType="image/png"/>
  <Override PartName="/ppt/media/image37.png" ContentType="image/png"/>
  <Override PartName="/ppt/media/image38.png" ContentType="image/png"/>
  <Override PartName="/ppt/media/image6.wmf" ContentType="image/x-wmf"/>
  <Override PartName="/ppt/media/image11.png" ContentType="image/png"/>
  <Override PartName="/ppt/media/image8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66C6-2D0D-4A6D-8E60-64165C313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6532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95320" y="4381200"/>
            <a:ext cx="5073840" cy="407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s: Interest: Interest Events: Number of members at each interest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6532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5320" y="4381200"/>
            <a:ext cx="5073840" cy="407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s: Interest: Hot Leads: Interest Points: Hot Leads in Terms of Interes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s: Web Site: Total Web Site: Total and Unique page h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s: Web Site: Track a Mailing: Tracked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6532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95320" y="4381200"/>
            <a:ext cx="5073840" cy="407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s: Purchases: Total Revenue: Total Revenue (all Mailin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532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5320" y="4381200"/>
            <a:ext cx="5073840" cy="407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s: Purchases: Number of Purchases: Number of Purchas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532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895320" y="4381200"/>
            <a:ext cx="5073840" cy="407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s: Purchases: Total Revenue by Product/S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532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95320" y="4381200"/>
            <a:ext cx="5073840" cy="407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vigate to Utilities: Other: Action Tags: Member Update Ta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57373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2840" y="3776400"/>
            <a:ext cx="57373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2960" y="167616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2840" y="377640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2960" y="377640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18471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2880" y="1676160"/>
            <a:ext cx="18471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2560" y="1676160"/>
            <a:ext cx="18471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2840" y="3776400"/>
            <a:ext cx="18471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2880" y="3776400"/>
            <a:ext cx="18471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2560" y="3776400"/>
            <a:ext cx="18471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742840" y="1676160"/>
            <a:ext cx="57373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57373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27997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682960" y="1676160"/>
            <a:ext cx="27997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19520" y="456840"/>
            <a:ext cx="5943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82960" y="1676160"/>
            <a:ext cx="27997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742840" y="377640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2840" y="1676160"/>
            <a:ext cx="57373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27997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82960" y="167616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82960" y="377640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82960" y="167616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742840" y="3776400"/>
            <a:ext cx="57373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57373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42840" y="3776400"/>
            <a:ext cx="57373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82960" y="167616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742840" y="377640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682960" y="377640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18471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2880" y="1676160"/>
            <a:ext cx="18471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22560" y="1676160"/>
            <a:ext cx="18471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742840" y="3776400"/>
            <a:ext cx="18471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82880" y="3776400"/>
            <a:ext cx="18471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22560" y="3776400"/>
            <a:ext cx="18471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57373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27997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2960" y="1676160"/>
            <a:ext cx="27997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19520" y="456840"/>
            <a:ext cx="5943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2960" y="1676160"/>
            <a:ext cx="27997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2840" y="377640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27997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2960" y="167616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2960" y="377640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2960" y="1676160"/>
            <a:ext cx="27997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2840" y="3776400"/>
            <a:ext cx="57373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6789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4343040"/>
            <a:ext cx="7818480" cy="37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1049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2" marL="1239840" indent="-338040">
              <a:spcBef>
                <a:spcPts val="1049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3" marL="1690560" indent="-338040">
              <a:spcBef>
                <a:spcPts val="1049"/>
              </a:spcBef>
              <a:buClr>
                <a:srgbClr val="c0c0c0"/>
              </a:buClr>
              <a:buSzPct val="14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4" marL="2141640" indent="-338400">
              <a:spcBef>
                <a:spcPts val="1049"/>
              </a:spcBef>
              <a:buClr>
                <a:srgbClr val="c0c0c0"/>
              </a:buClr>
              <a:buSzPct val="14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5" marL="2141640" indent="-338400">
              <a:spcBef>
                <a:spcPts val="1049"/>
              </a:spcBef>
              <a:buClr>
                <a:srgbClr val="000000"/>
              </a:buClr>
              <a:buSzPct val="14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6" marL="2141640" indent="-338400">
              <a:spcBef>
                <a:spcPts val="1049"/>
              </a:spcBef>
              <a:buClr>
                <a:srgbClr val="000000"/>
              </a:buClr>
              <a:buSzPct val="14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8381880" y="6400800"/>
          <a:ext cx="57168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6400800"/>
                    <a:ext cx="571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4680" y="0"/>
            <a:ext cx="22906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0" y="0"/>
            <a:ext cx="9144000" cy="1308240"/>
            <a:chOff x="0" y="0"/>
            <a:chExt cx="9144000" cy="130824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9144000" cy="1308240"/>
            </a:xfrm>
            <a:prstGeom prst="rect">
              <a:avLst/>
            </a:prstGeom>
            <a:solidFill>
              <a:srgbClr val="678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704880" y="371520"/>
              <a:ext cx="1243080" cy="56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34776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46280" indent="-284400">
              <a:spcBef>
                <a:spcPts val="6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2" marL="1492200" algn="ctr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lvl="3" marL="1606680" algn="ctr">
              <a:spcBef>
                <a:spcPts val="675"/>
              </a:spcBef>
              <a:buClr>
                <a:srgbClr val="c0c0c0"/>
              </a:buClr>
              <a:buSzPct val="140000"/>
              <a:buFont typeface="Wingdings" charset="2"/>
              <a:buChar char=""/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RotisSemiSans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RotisSemiSans"/>
            </a:endParaRPr>
          </a:p>
          <a:p>
            <a:pPr lvl="4" marL="1720800" algn="ctr">
              <a:spcBef>
                <a:spcPts val="601"/>
              </a:spcBef>
              <a:buClr>
                <a:srgbClr val="c0c0c0"/>
              </a:buClr>
              <a:buSzPct val="140000"/>
              <a:buFont typeface="Wingdings" charset="2"/>
              <a:buChar char=""/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RotisSemiSans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RotisSemiSans"/>
            </a:endParaRPr>
          </a:p>
          <a:p>
            <a:pPr lvl="5" marL="1720800">
              <a:spcBef>
                <a:spcPts val="400"/>
              </a:spcBef>
              <a:buClr>
                <a:srgbClr val="00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RotisSemiSans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RotisSemiSans"/>
            </a:endParaRPr>
          </a:p>
          <a:p>
            <a:pPr lvl="6" marL="1720800">
              <a:spcBef>
                <a:spcPts val="400"/>
              </a:spcBef>
              <a:buClr>
                <a:srgbClr val="00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RotisSemiSans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tp://ftp.lyris.com/training/7.8enterprise.zip" TargetMode="External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514600" y="2133360"/>
            <a:ext cx="3200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100" spc="-1" strike="noStrike">
                <a:solidFill>
                  <a:srgbClr val="333333"/>
                </a:solidFill>
                <a:latin typeface="RotisSemiSans"/>
              </a:rPr>
              <a:t>Lyris</a:t>
            </a:r>
            <a:endParaRPr b="0" lang="en-US" sz="4100" spc="-1" strike="noStrike">
              <a:solidFill>
                <a:srgbClr val="333333"/>
              </a:solidFill>
              <a:latin typeface="RotisSemiSans"/>
            </a:endParaRPr>
          </a:p>
          <a:p>
            <a:pPr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100" spc="-1" strike="noStrike">
                <a:solidFill>
                  <a:srgbClr val="333333"/>
                </a:solidFill>
                <a:latin typeface="RotisSemiSans"/>
              </a:rPr>
              <a:t>ListManager 7.8</a:t>
            </a:r>
            <a:endParaRPr b="0" lang="en-US" sz="4100" spc="-1" strike="noStrike">
              <a:solidFill>
                <a:srgbClr val="333333"/>
              </a:solidFill>
              <a:latin typeface="RotisSemiSans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Enterprise Training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pic>
        <p:nvPicPr>
          <p:cNvPr id="91" name="photo_listmanager_reports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857680" cy="236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Interest Tracking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Stage vs. Points (1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77160" cy="522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spcBef>
                <a:spcPts val="104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Stage and point values are not preset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635040" indent="-23184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Can be any value you like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635040" indent="-23184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Should reflect </a:t>
            </a:r>
            <a:r>
              <a:rPr b="1" i="1" lang="en-US" sz="2400" spc="-1" strike="noStrike">
                <a:solidFill>
                  <a:srgbClr val="4d4d4d"/>
                </a:solidFill>
                <a:latin typeface="RotisSemiSans"/>
              </a:rPr>
              <a:t>your</a:t>
            </a: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 sales/business cycle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635040" indent="-23184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Viewing a pricing page may mean: 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Someone is in an early stage of the buying process...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lvl="3" marL="1690560" indent="-338040">
              <a:spcBef>
                <a:spcPts val="675"/>
              </a:spcBef>
              <a:buClr>
                <a:srgbClr val="c0c0c0"/>
              </a:buClr>
              <a:buSzPct val="140000"/>
              <a:buFont typeface="Wingdings" charset="2"/>
              <a:buChar char=""/>
              <a:tabLst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RotisSemiSans"/>
              </a:rPr>
              <a:t>Therefore low stage</a:t>
            </a:r>
            <a:endParaRPr b="0" lang="en-US" sz="1800" spc="-1" strike="noStrike">
              <a:solidFill>
                <a:srgbClr val="333333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...but definitely worth a call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lvl="3" marL="1690560" indent="-338040">
              <a:spcBef>
                <a:spcPts val="675"/>
              </a:spcBef>
              <a:buClr>
                <a:srgbClr val="c0c0c0"/>
              </a:buClr>
              <a:buSzPct val="140000"/>
              <a:buFont typeface="Wingdings" charset="2"/>
              <a:buChar char=""/>
              <a:tabLst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RotisSemiSans"/>
              </a:rPr>
              <a:t>Therefore high points</a:t>
            </a:r>
            <a:endParaRPr b="0" lang="en-US" sz="1800" spc="-1" strike="noStrike">
              <a:solidFill>
                <a:srgbClr val="333333"/>
              </a:solidFill>
              <a:latin typeface="RotisSemiSans"/>
            </a:endParaRPr>
          </a:p>
          <a:p>
            <a:pPr lvl="1" marL="635040" indent="-23184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Buying an upgrade may mean: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Someone is a loyal customer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lvl="3" marL="1690560" indent="-338040">
              <a:spcBef>
                <a:spcPts val="675"/>
              </a:spcBef>
              <a:buClr>
                <a:srgbClr val="c0c0c0"/>
              </a:buClr>
              <a:buSzPct val="140000"/>
              <a:buFont typeface="Wingdings" charset="2"/>
              <a:buChar char=""/>
              <a:tabLst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RotisSemiSans"/>
              </a:rPr>
              <a:t>Therefore high stage</a:t>
            </a:r>
            <a:endParaRPr b="0" lang="en-US" sz="1800" spc="-1" strike="noStrike">
              <a:solidFill>
                <a:srgbClr val="333333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... but no point in contacting, since they just bought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lvl="3" marL="1690560" indent="-338040">
              <a:spcBef>
                <a:spcPts val="675"/>
              </a:spcBef>
              <a:buClr>
                <a:srgbClr val="c0c0c0"/>
              </a:buClr>
              <a:buSzPct val="140000"/>
              <a:buFont typeface="Wingdings" charset="2"/>
              <a:buChar char=""/>
              <a:tabLst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RotisSemiSans"/>
              </a:rPr>
              <a:t>Therefore low points</a:t>
            </a:r>
            <a:endParaRPr b="0" lang="en-US" sz="1800" spc="-1" strike="noStrike">
              <a:solidFill>
                <a:srgbClr val="333333"/>
              </a:solidFill>
              <a:latin typeface="RotisSemiSan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12337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Interest Tracking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Stage vs. Points (2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1848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Interest stage values and point values do not need to rise in tandem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819520"/>
          <a:ext cx="4876560" cy="3033720"/>
        </p:xfrm>
        <a:graphic>
          <a:graphicData uri="http://schemas.openxmlformats.org/drawingml/2006/table">
            <a:tbl>
              <a:tblPr/>
              <a:tblGrid>
                <a:gridCol w="2133360"/>
                <a:gridCol w="1371600"/>
                <a:gridCol w="137160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RotisSemiSans"/>
                        </a:rPr>
                        <a:t>Web Page/A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RotisSemiSans"/>
                        </a:rPr>
                        <a:t>Stage 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RotisSemiSans"/>
                        </a:rPr>
                        <a:t>Point 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Home Pa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Product Landing Pa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Product Main Pa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Customer Li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Contact Pa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Pric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4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Open Shopping Ca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Bu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8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Upgrad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9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Interest Tracking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How it Works (1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619760" cy="43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Interest Tracking uses </a:t>
            </a:r>
            <a:r>
              <a:rPr b="1" i="1" lang="en-US" sz="2800" spc="-1" strike="noStrike">
                <a:solidFill>
                  <a:srgbClr val="0066ff"/>
                </a:solidFill>
                <a:latin typeface="RotisSemiSans"/>
              </a:rPr>
              <a:t>Interest Tags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A type of </a:t>
            </a:r>
            <a:r>
              <a:rPr b="1" i="1" lang="en-US" sz="2400" spc="-1" strike="noStrike">
                <a:solidFill>
                  <a:srgbClr val="0066ff"/>
                </a:solidFill>
                <a:latin typeface="RotisSemiSans"/>
              </a:rPr>
              <a:t>Action Tag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All Enterprise tracking enabled by Action Tags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marL="338040" indent="-33804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What is an Action Tag?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Tiny, invisible graphic (GIF) inserted into a web page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When recipient views the page after receiving a mailing, the action tag sends information back to ListManager server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24480" y="4800600"/>
            <a:ext cx="1492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Interest Tracking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How it Works (2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81848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An Interest Tag, like any Action Tag, is simple HTML: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ourier New"/>
                <a:ea typeface="Times New Roman"/>
              </a:rPr>
              <a:t>&lt;IMGSRC="http://demo.lyris.net/pt?name=Home+Page&amp;Points_=5&amp;Stage_=30&amp;Quantity_=0&amp;fields=Points%5F%2CQuantity%5F%2CStage%5F"ALT="" HEIGHT=1 WIDTH=1&gt;</a:t>
            </a:r>
            <a:endParaRPr b="1" lang="en-US" sz="1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-28908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Tag can be inserted anywhere on a page to be tracked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-28908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When activated, an interest tag sends information on: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635040" indent="-23184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Page visited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635040" indent="-23184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Interest stage and points values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635040" indent="-23184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Date &amp; time of visit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400800" y="4876920"/>
            <a:ext cx="1492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Interest Tracking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Creating an Interest Tag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2619360" cy="41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901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RotisSemiSans"/>
              </a:rPr>
              <a:t>Choose Event to create tag fast, or</a:t>
            </a:r>
            <a:endParaRPr b="1" lang="en-US" sz="24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-289080">
              <a:spcBef>
                <a:spcPts val="901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RotisSemiSans"/>
              </a:rPr>
              <a:t>Specify</a:t>
            </a:r>
            <a:endParaRPr b="1" lang="en-US" sz="2400" spc="-1" strike="noStrike">
              <a:solidFill>
                <a:srgbClr val="333333"/>
              </a:solidFill>
              <a:latin typeface="RotisSemiSans"/>
            </a:endParaRPr>
          </a:p>
          <a:p>
            <a:pPr lvl="1" marL="635040" indent="-23184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Interest event name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635040" indent="-23184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Interest stage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635040" indent="-23184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Interest points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5434200" cy="2282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28600" y="1676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8040">
              <a:lnSpc>
                <a:spcPct val="100000"/>
              </a:lnSpc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RotisSemiSans"/>
              </a:rPr>
              <a:t>ListManager provides easy wizard to create Action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2971800"/>
            <a:ext cx="5029200" cy="1295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666880" y="5181120"/>
            <a:ext cx="60984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4191120"/>
            <a:ext cx="83808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666880" y="4800240"/>
            <a:ext cx="60984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Interest Tracking: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Reports (1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5880" y="1980720"/>
            <a:ext cx="2819520" cy="44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Interest events (page views)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marL="338040" indent="-338040"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Members in a specific interest stage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marL="338040" indent="-338040"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Interest points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marL="338040" indent="-338040"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Hot leads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marL="338040" indent="-338040"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Time to sale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marL="338040" indent="-338040"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Sales cycle analysis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3429000"/>
            <a:ext cx="2362320" cy="12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971800"/>
            <a:ext cx="3276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783" t="14584" r="25003" b="11458"/>
          <a:stretch/>
        </p:blipFill>
        <p:spPr>
          <a:xfrm>
            <a:off x="380880" y="1905120"/>
            <a:ext cx="54864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Interest Tracking: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Reports (2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79396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Scenario: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When did my list generate the most interest?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0">
              <a:spcBef>
                <a:spcPts val="7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Report: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Interest events over time for a particular list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3429000"/>
            <a:ext cx="2362320" cy="12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2971800"/>
            <a:ext cx="3276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809880" y="1828800"/>
          <a:ext cx="4876920" cy="34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87692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Interest Tracking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Reports (3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2793960" cy="39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Scenario: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lvl="1" marL="781200" indent="-33480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After a mailing, who visited what pages?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 lvl="1" marL="781200" indent="0">
              <a:spcBef>
                <a:spcPts val="7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Report: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lvl="1" marL="781200" indent="-33480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Members who visited interest tagged pages for a unique mailing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3429000"/>
            <a:ext cx="2362320" cy="12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971800"/>
            <a:ext cx="3276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657600" y="1716120"/>
          <a:ext cx="492300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716120"/>
                    <a:ext cx="492300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Interest Tracking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Reports (4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793960" cy="39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Scenario: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lvl="1" marL="781200" indent="-33480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After a mailing, who are my hottest leads?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 lvl="1" marL="781200" indent="0">
              <a:spcBef>
                <a:spcPts val="7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Report: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lvl="1" marL="781200" indent="-33480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List members who had the highest number of interest points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3429000"/>
            <a:ext cx="2362320" cy="12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2971800"/>
            <a:ext cx="3276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255" t="0" r="0" b="0"/>
          <a:stretch/>
        </p:blipFill>
        <p:spPr>
          <a:xfrm>
            <a:off x="4419720" y="1828800"/>
            <a:ext cx="4160880" cy="2917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V="1">
            <a:off x="5867280" y="4495320"/>
            <a:ext cx="205740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5562720"/>
            <a:ext cx="190476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5562720"/>
            <a:ext cx="1752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Download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dresses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742840" y="1676160"/>
            <a:ext cx="57373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ListManager Enterprise Overview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Interest Tracking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Web Traffic Analysi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Purchase Tracking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Member Update Tag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Triggered Mailing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Q &amp; A / In-depth discussion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42840" y="1676160"/>
            <a:ext cx="57373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34776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ListManager Enterprise Overview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indent="34776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Interest Tracking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indent="34776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Web Traffic Analysi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indent="34776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Purchase Tracking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indent="34776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Member Update Tag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indent="34776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Triggered Mailing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indent="34776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Q &amp; A / In-depth discussion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Web Traffic Analysis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00200" y="1676520"/>
            <a:ext cx="7742160" cy="50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Web traffic analysis also uses Interest Tags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Insert a tag in any page to be tracked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Set values to zero to avoid counting toward a list member’s interest stage or points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Use two or more interest tags if you’d like to track both interest and web traffic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marL="338040" indent="-33804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ListManager Enterprise reports on: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Total Web page impressions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Impressions by page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Impressions by mailing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Total vs. unique impressions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324480" y="4800600"/>
            <a:ext cx="20574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Web Traffic Analysis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Reports (1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79396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Scenario: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lvl="1" marL="781200" indent="-33480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Which mailings produce the most traffic?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 lvl="1" marL="781200" indent="0">
              <a:spcBef>
                <a:spcPts val="7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Report: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lvl="1" marL="781200" indent="-33480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Total and unique hits for all mailings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2590920"/>
            <a:ext cx="2514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601"/>
              </a:spcBef>
              <a:buClr>
                <a:srgbClr val="ecd9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783" t="14584" r="25003" b="12502"/>
          <a:stretch/>
        </p:blipFill>
        <p:spPr>
          <a:xfrm>
            <a:off x="3809880" y="1655640"/>
            <a:ext cx="47246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Web Traffic Analysis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Reports (2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279396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Scenario: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lvl="1" marL="781200" indent="-33480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What pages do my list members visit most?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 lvl="1" marL="781200" indent="0">
              <a:spcBef>
                <a:spcPts val="7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Report: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lvl="1" marL="781200" indent="-33480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Tracked pages for all mailings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590920"/>
            <a:ext cx="2514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601"/>
              </a:spcBef>
              <a:buClr>
                <a:srgbClr val="ecd9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783" t="14584" r="25003" b="11458"/>
          <a:stretch/>
        </p:blipFill>
        <p:spPr>
          <a:xfrm>
            <a:off x="3809880" y="1809720"/>
            <a:ext cx="46944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742840" y="1676160"/>
            <a:ext cx="57373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ListManager Enterprise Overview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Interest Tracking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Web Traffic Analysi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Purchase Tracking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Member Update Tag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Triggered Mailing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Q &amp; A / In-depth discussion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Purchase Tracking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056720" cy="37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Purchase tracking gives you reports on any kind of sales activity: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Revenue generated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Units sold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Total transactions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Sales by SKU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Sales by mailing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Sales by list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486400" y="3319560"/>
            <a:ext cx="25146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Purchase Tracking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Purchase Tags (1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38360" y="1371240"/>
            <a:ext cx="7665840" cy="55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Purchase tracking uses </a:t>
            </a:r>
            <a:r>
              <a:rPr b="1" i="1" lang="en-US" sz="2800" spc="-1" strike="noStrike">
                <a:solidFill>
                  <a:srgbClr val="0066ff"/>
                </a:solidFill>
                <a:latin typeface="RotisSemiSans"/>
              </a:rPr>
              <a:t>Purchase Tags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635040" indent="-23184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Works just like other Action Tags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marL="289080" indent="-28908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Record any relevant data about a sale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635040" indent="-23184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Automatic (assumed) fields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Product SKU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Quantity sold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Unit price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lvl="1" marL="635040" indent="-23184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Optional fields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Product Name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Order ID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Non-ListManager Customer ID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Demographics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… </a:t>
            </a: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Or any other information linked to your e-commerce/CRM system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010280" y="3429000"/>
            <a:ext cx="137160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rcRect l="1509" t="0" r="0" b="0"/>
          <a:stretch/>
        </p:blipFill>
        <p:spPr>
          <a:xfrm>
            <a:off x="152280" y="2133720"/>
            <a:ext cx="5703840" cy="37306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248520" y="2819520"/>
            <a:ext cx="2590560" cy="39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spcBef>
                <a:spcPts val="901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RotisSemiSans"/>
              </a:rPr>
              <a:t>Choose different fields to track</a:t>
            </a:r>
            <a:endParaRPr b="1" lang="en-US" sz="2400" spc="-1" strike="noStrike">
              <a:solidFill>
                <a:srgbClr val="333333"/>
              </a:solidFill>
              <a:latin typeface="RotisSemiSans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400" spc="-1" strike="noStrike">
              <a:solidFill>
                <a:srgbClr val="333333"/>
              </a:solidFill>
              <a:latin typeface="RotisSemiSans"/>
            </a:endParaRPr>
          </a:p>
          <a:p>
            <a:pPr marL="285840" indent="-285840">
              <a:spcBef>
                <a:spcPts val="901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RotisSemiSans"/>
              </a:rPr>
              <a:t>Specify Values:</a:t>
            </a:r>
            <a:endParaRPr b="1" lang="en-US" sz="2400" spc="-1" strike="noStrike">
              <a:solidFill>
                <a:srgbClr val="333333"/>
              </a:solidFill>
              <a:latin typeface="RotisSemiSans"/>
            </a:endParaRPr>
          </a:p>
          <a:p>
            <a:pPr lvl="1" marL="628560" indent="-22932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Unit price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 lvl="1" marL="628560" indent="-22932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Quantity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 lvl="1" marL="628560" indent="-22932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Product/SKU#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 lvl="1" marL="628560" indent="-22932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Interest stage/points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Purchase Tracking: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Creating a Purchase Tag (1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1371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emi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RotisSemiSans"/>
              </a:rPr>
              <a:t>Navigate to Utilities: Other: Action Tags: Purchase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714640" y="3200400"/>
            <a:ext cx="60948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85800" y="3885840"/>
            <a:ext cx="556272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Purchase Tracking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 Creating a Purchase Tag (2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742520" cy="47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Most common: </a:t>
            </a:r>
            <a:r>
              <a:rPr b="1" i="1" lang="en-US" sz="2800" spc="-1" strike="noStrike">
                <a:solidFill>
                  <a:srgbClr val="0066ff"/>
                </a:solidFill>
                <a:latin typeface="RotisSemiSans"/>
              </a:rPr>
              <a:t>dynamic</a:t>
            </a: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 Purchase Tags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690480" indent="-28728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Has changing elements, unlike Interest Tag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690480" indent="-28728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Advantage: communicates variable information to ListManager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690480" indent="-28728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Any kind of active server page or script can create and/or activate them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Can even communicate off-line sales information to ListManager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marL="289080" indent="-28908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Also: </a:t>
            </a:r>
            <a:r>
              <a:rPr b="1" i="1" lang="en-US" sz="2800" spc="-1" strike="noStrike">
                <a:solidFill>
                  <a:srgbClr val="0066ff"/>
                </a:solidFill>
                <a:latin typeface="RotisSemiSans"/>
              </a:rPr>
              <a:t>static</a:t>
            </a: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 Purchase Tags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690480" indent="-28728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No changing elements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690480" indent="-28728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Easier but less useful, because data is frozen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391520" y="1676520"/>
            <a:ext cx="1066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Purchase Tracking: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Creating a Purchase Tag (3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1160" y="4191120"/>
            <a:ext cx="6781680" cy="22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Use variables to make dynamic tags which your shopping cart application can update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-28908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Use multiple tags if you have multiple products/SKUs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30872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Purchase Tracking: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Creating a Purchase Tag (4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4191120"/>
            <a:ext cx="739152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To create additional tracking fields for your purchase tags, navigate to: 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Utilities: Administration: Server: Database: Add Action Tag Columns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462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742840" y="1676160"/>
            <a:ext cx="57373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ListManager Enterprise Overview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Interest Tracking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Web Traffic Analysi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Purchase Tracking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Member Update Tag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Triggered Mailing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Q &amp; A / In-depth discussion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Purchase Tracking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Reports (1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793960" cy="29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Scenario: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lvl="1" marL="781200" indent="-33480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Which mailing generated with most money?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Report: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lvl="1" marL="781200" indent="-33480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Revenue by mailing for a single list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3429000"/>
            <a:ext cx="2362320" cy="12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2971800"/>
            <a:ext cx="3276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783" t="14584" r="25003" b="11552"/>
          <a:stretch/>
        </p:blipFill>
        <p:spPr>
          <a:xfrm>
            <a:off x="3657600" y="1676520"/>
            <a:ext cx="477036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Purchase Tracking: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Reports (2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793960" cy="32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Scenario: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lvl="1" marL="781200" indent="-33480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When has my list sold the most?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Report: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lvl="1" marL="781200" indent="-33480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Total purchases over time for a single list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429000"/>
            <a:ext cx="2362320" cy="12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2971800"/>
            <a:ext cx="3276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657600" y="1828800"/>
          <a:ext cx="4541760" cy="32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828800"/>
                    <a:ext cx="454176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Purchase Tracking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Reports (3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793960" cy="229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Scenario: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Which SKU did I sell the most?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>
              <a:spcBef>
                <a:spcPts val="938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RotisSemiSans"/>
              </a:rPr>
              <a:t>Report:</a:t>
            </a:r>
            <a:endParaRPr b="1" lang="en-US" sz="25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Sales by SKU for one mailing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3429000"/>
            <a:ext cx="2362320" cy="12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971800"/>
            <a:ext cx="3276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00800" y="1828800"/>
            <a:ext cx="2514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ecd9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657600" y="1752480"/>
          <a:ext cx="4846680" cy="34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752480"/>
                    <a:ext cx="4846680" cy="34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742840" y="1676160"/>
            <a:ext cx="57373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ListManager Enterprise Overview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Interest Tracking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Web Traffic Analysi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Purchase Tracking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Member Update Tag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Triggered Mailing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Q &amp; A / In-depth discussion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Member Update Tags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Lets you adjust any field in member table with a page view, or with a simple web command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0">
              <a:spcBef>
                <a:spcPts val="1049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-28908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Instantly change customer preferences, demographics, subscriptions – without scripting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638680" y="4038480"/>
            <a:ext cx="17002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Member Update Tags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How it Works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948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Member Update Tag similar to other Action Tags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84080" indent="-38088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RotisSemiSans"/>
              </a:rPr>
              <a:t>Example -</a:t>
            </a: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 A tag that enrolls a list member in a sweepstakes when they simply view a page: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marL="4572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33"/>
                </a:solidFill>
                <a:latin typeface="Courier New"/>
              </a:rPr>
              <a:t>&lt;IMG SRC="http://demo.lyris.com/mf?field=Sweeps&amp;</a:t>
            </a:r>
            <a:endParaRPr b="1" lang="en-US" sz="2200" spc="-1" strike="noStrike">
              <a:solidFill>
                <a:srgbClr val="333333"/>
              </a:solidFill>
              <a:latin typeface="RotisSemiSans"/>
            </a:endParaRPr>
          </a:p>
          <a:p>
            <a:pPr marL="4572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33"/>
                </a:solidFill>
                <a:latin typeface="Courier New"/>
              </a:rPr>
              <a:t>value=Y" ALT="" HEIGHT=1 WIDTH=1&gt;</a:t>
            </a:r>
            <a:endParaRPr b="1" lang="en-US" sz="2200" spc="-1" strike="noStrike">
              <a:solidFill>
                <a:srgbClr val="333333"/>
              </a:solidFill>
              <a:latin typeface="RotisSemiSans"/>
            </a:endParaRPr>
          </a:p>
          <a:p>
            <a:pPr marL="457200" indent="-45720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Can insert tag into any visible page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104940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Member Update Tags: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Creating an Update Tag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1243" t="0" r="0" b="0"/>
          <a:stretch/>
        </p:blipFill>
        <p:spPr>
          <a:xfrm>
            <a:off x="939960" y="1604880"/>
            <a:ext cx="7264080" cy="1824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V="1">
            <a:off x="6553080" y="3428640"/>
            <a:ext cx="68580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4267080"/>
            <a:ext cx="777240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9080" indent="-289080">
              <a:lnSpc>
                <a:spcPct val="100000"/>
              </a:lnSpc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Specif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231840">
              <a:lnSpc>
                <a:spcPct val="100000"/>
              </a:lnSpc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Field name to be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231840">
              <a:lnSpc>
                <a:spcPct val="100000"/>
              </a:lnSpc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Value to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Create a new field in your database if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742840" y="1676160"/>
            <a:ext cx="57373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ListManager Enterprise Overview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Interest Tracking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Web Traffic Analysi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Purchase Tracking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Member Update Tag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Triggered Mailing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Q &amp; A / In-depth discussion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Mailings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Closing the Loop (1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4935600"/>
            <a:ext cx="781848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Triggered mailings let you close the loop by targeting customers who have – or have not – taken certain actions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324160" y="1600200"/>
            <a:ext cx="4495680" cy="2418120"/>
            <a:chOff x="2324160" y="1600200"/>
            <a:chExt cx="4495680" cy="2418120"/>
          </a:xfrm>
        </p:grpSpPr>
        <p:sp>
          <p:nvSpPr>
            <p:cNvPr id="262" name=""/>
            <p:cNvSpPr/>
            <p:nvPr/>
          </p:nvSpPr>
          <p:spPr>
            <a:xfrm rot="16200000">
              <a:off x="3138120" y="2958840"/>
              <a:ext cx="778680" cy="933480"/>
            </a:xfrm>
            <a:custGeom>
              <a:avLst/>
              <a:gdLst>
                <a:gd name="textAreaLeft" fmla="*/ 0 w 778680"/>
                <a:gd name="textAreaRight" fmla="*/ 779040 w 77868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830" stAng="10800000" swAng="5400000"/>
                  <a:lnTo>
                    <a:pt x="12427" y="3330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8828"/>
                  </a:lnTo>
                  <a:lnTo>
                    <a:pt x="12427" y="8828"/>
                  </a:lnTo>
                  <a:arcTo wR="6929" hR="3332" stAng="16200000" swAng="-5400000"/>
                  <a:lnTo>
                    <a:pt x="549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c590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05800" y="1609560"/>
              <a:ext cx="871200" cy="834120"/>
            </a:xfrm>
            <a:custGeom>
              <a:avLst/>
              <a:gdLst>
                <a:gd name="textAreaLeft" fmla="*/ 0 w 871200"/>
                <a:gd name="textAreaRight" fmla="*/ 871560 w 871200"/>
                <a:gd name="textAreaTop" fmla="*/ 0 h 834120"/>
                <a:gd name="textAreaBottom" fmla="*/ 83448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830" stAng="10800000" swAng="5400000"/>
                  <a:lnTo>
                    <a:pt x="12427" y="3330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8828"/>
                  </a:lnTo>
                  <a:lnTo>
                    <a:pt x="12427" y="8828"/>
                  </a:lnTo>
                  <a:arcTo wR="6929" hR="3332" stAng="16200000" swAng="-5400000"/>
                  <a:lnTo>
                    <a:pt x="549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dc5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24160" y="2508480"/>
              <a:ext cx="200232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99cc"/>
                  </a:solidFill>
                  <a:latin typeface="Arial"/>
                </a:rPr>
                <a:t>MEASURE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99cc"/>
                  </a:solidFill>
                  <a:latin typeface="Arial"/>
                </a:rPr>
                <a:t>ANALYZE RESU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86640" y="2554920"/>
              <a:ext cx="19332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99cc"/>
                  </a:solidFill>
                  <a:latin typeface="Arial"/>
                </a:rPr>
                <a:t>CREATE O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99cc"/>
                  </a:solidFill>
                  <a:latin typeface="Arial"/>
                </a:rPr>
                <a:t>AND COP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40920" y="3453840"/>
              <a:ext cx="125496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99cc"/>
                  </a:solidFill>
                  <a:latin typeface="Arial"/>
                </a:rPr>
                <a:t>SE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99cc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61800" y="1600200"/>
              <a:ext cx="1266840" cy="6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EL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TARGET</a:t>
              </a:r>
              <a:r>
                <a:rPr b="1" lang="en-US" sz="18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5400000">
              <a:off x="5243400" y="1679760"/>
              <a:ext cx="778320" cy="933480"/>
            </a:xfrm>
            <a:custGeom>
              <a:avLst/>
              <a:gdLst>
                <a:gd name="textAreaLeft" fmla="*/ 0 w 778320"/>
                <a:gd name="textAreaRight" fmla="*/ 778680 w 77832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830" stAng="10800000" swAng="5400000"/>
                  <a:lnTo>
                    <a:pt x="12427" y="3330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8828"/>
                  </a:lnTo>
                  <a:lnTo>
                    <a:pt x="12427" y="8828"/>
                  </a:lnTo>
                  <a:arcTo wR="6929" hR="3332" stAng="16200000" swAng="-5400000"/>
                  <a:lnTo>
                    <a:pt x="549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dc5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5094000" y="3110760"/>
              <a:ext cx="871200" cy="834120"/>
            </a:xfrm>
            <a:custGeom>
              <a:avLst/>
              <a:gdLst>
                <a:gd name="textAreaLeft" fmla="*/ 0 w 871200"/>
                <a:gd name="textAreaRight" fmla="*/ 871560 w 871200"/>
                <a:gd name="textAreaTop" fmla="*/ 0 h 834120"/>
                <a:gd name="textAreaBottom" fmla="*/ 83448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830" stAng="10800000" swAng="5400000"/>
                  <a:lnTo>
                    <a:pt x="12427" y="3330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8828"/>
                  </a:lnTo>
                  <a:lnTo>
                    <a:pt x="12427" y="8828"/>
                  </a:lnTo>
                  <a:arcTo wR="6929" hR="3332" stAng="16200000" swAng="-5400000"/>
                  <a:lnTo>
                    <a:pt x="549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c5900"/>
                </a:gs>
                <a:gs pos="100000">
                  <a:srgbClr val="ff99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Mailings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Closing the Loop (2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504960" y="2209680"/>
            <a:ext cx="5227560" cy="44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spcBef>
                <a:spcPts val="104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Target customers who: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Opened a mailing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Clicked on a link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Showed a certain amount of interest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Purchased a certain amount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Have an anniversary or birthday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Answered a survey a certain way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0" y="2133720"/>
            <a:ext cx="3276720" cy="1984320"/>
            <a:chOff x="0" y="2133720"/>
            <a:chExt cx="3276720" cy="1984320"/>
          </a:xfrm>
        </p:grpSpPr>
        <p:sp>
          <p:nvSpPr>
            <p:cNvPr id="273" name=""/>
            <p:cNvSpPr/>
            <p:nvPr/>
          </p:nvSpPr>
          <p:spPr>
            <a:xfrm rot="16200000">
              <a:off x="557640" y="3291120"/>
              <a:ext cx="638640" cy="680400"/>
            </a:xfrm>
            <a:custGeom>
              <a:avLst/>
              <a:gdLst>
                <a:gd name="textAreaLeft" fmla="*/ 0 w 638640"/>
                <a:gd name="textAreaRight" fmla="*/ 639000 w 638640"/>
                <a:gd name="textAreaTop" fmla="*/ 0 h 680400"/>
                <a:gd name="textAreaBottom" fmla="*/ 680760 h 68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830" stAng="10800000" swAng="5400000"/>
                  <a:lnTo>
                    <a:pt x="12427" y="3330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8828"/>
                  </a:lnTo>
                  <a:lnTo>
                    <a:pt x="12427" y="8828"/>
                  </a:lnTo>
                  <a:arcTo wR="6929" hR="3332" stAng="16200000" swAng="-5400000"/>
                  <a:lnTo>
                    <a:pt x="549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c590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2600" y="2141280"/>
              <a:ext cx="635040" cy="68400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830" stAng="10800000" swAng="5400000"/>
                  <a:lnTo>
                    <a:pt x="12427" y="3330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8828"/>
                  </a:lnTo>
                  <a:lnTo>
                    <a:pt x="12427" y="8828"/>
                  </a:lnTo>
                  <a:arcTo wR="6929" hR="3332" stAng="16200000" swAng="-5400000"/>
                  <a:lnTo>
                    <a:pt x="549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dc5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2877840"/>
              <a:ext cx="1459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cc"/>
                  </a:solidFill>
                  <a:latin typeface="Arial"/>
                </a:rPr>
                <a:t>MEASURE 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cc"/>
                  </a:solidFill>
                  <a:latin typeface="Arial"/>
                </a:rPr>
                <a:t>ANALYZE RESUL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66600" y="2915640"/>
              <a:ext cx="14101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6699cc"/>
                  </a:solidFill>
                  <a:latin typeface="Arial"/>
                </a:rPr>
                <a:t>CREATE OFF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6699cc"/>
                  </a:solidFill>
                  <a:latin typeface="Arial"/>
                </a:rPr>
                <a:t>AND COP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77560" y="3654360"/>
              <a:ext cx="9169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6699cc"/>
                  </a:solidFill>
                  <a:latin typeface="Arial"/>
                </a:rPr>
                <a:t>SEN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6699cc"/>
                  </a:solidFill>
                  <a:latin typeface="Arial"/>
                </a:rPr>
                <a:t>MESS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93400" y="2133720"/>
              <a:ext cx="924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TARGET</a:t>
              </a:r>
              <a:r>
                <a:rPr b="1" lang="en-US" sz="18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2092680" y="2241720"/>
              <a:ext cx="638280" cy="68040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680400"/>
                <a:gd name="textAreaBottom" fmla="*/ 680760 h 68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830" stAng="10800000" swAng="5400000"/>
                  <a:lnTo>
                    <a:pt x="12427" y="3330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8828"/>
                  </a:lnTo>
                  <a:lnTo>
                    <a:pt x="12427" y="8828"/>
                  </a:lnTo>
                  <a:arcTo wR="6929" hR="3332" stAng="16200000" swAng="-5400000"/>
                  <a:lnTo>
                    <a:pt x="549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dc5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0800000">
              <a:off x="2018880" y="3373200"/>
              <a:ext cx="635040" cy="68400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830" stAng="10800000" swAng="5400000"/>
                  <a:lnTo>
                    <a:pt x="12427" y="3330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8828"/>
                  </a:lnTo>
                  <a:lnTo>
                    <a:pt x="12427" y="8828"/>
                  </a:lnTo>
                  <a:arcTo wR="6929" hR="3332" stAng="16200000" swAng="-5400000"/>
                  <a:lnTo>
                    <a:pt x="549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c5900"/>
                </a:gs>
                <a:gs pos="100000">
                  <a:srgbClr val="ff99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5920"/>
            <a:ext cx="84488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Enterprise Tracking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4343400"/>
            <a:ext cx="708660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Track list member interaction comprehensively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98480" indent="-39528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Awareness: who knows about me?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98480" indent="-39528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Interest: who wants to learn more about me?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98480" indent="-39528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Actions: who is trying and buying my products/services? 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157480"/>
            <a:ext cx="914400" cy="1904760"/>
          </a:xfrm>
          <a:custGeom>
            <a:avLst/>
            <a:gdLst>
              <a:gd name="textAreaLeft" fmla="*/ 0 w 914400"/>
              <a:gd name="textAreaRight" fmla="*/ 914760 w 9144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113" y="0"/>
                </a:lnTo>
                <a:lnTo>
                  <a:pt x="21600" y="10800"/>
                </a:lnTo>
                <a:lnTo>
                  <a:pt x="121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157480"/>
            <a:ext cx="1359000" cy="190476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140" y="0"/>
                </a:lnTo>
                <a:lnTo>
                  <a:pt x="21600" y="10800"/>
                </a:lnTo>
                <a:lnTo>
                  <a:pt x="15140" y="21600"/>
                </a:lnTo>
                <a:lnTo>
                  <a:pt x="0" y="21600"/>
                </a:lnTo>
                <a:lnTo>
                  <a:pt x="6460" y="108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7080" y="2157480"/>
            <a:ext cx="1308240" cy="190476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42" y="0"/>
                </a:lnTo>
                <a:lnTo>
                  <a:pt x="21600" y="10800"/>
                </a:lnTo>
                <a:lnTo>
                  <a:pt x="14942" y="21600"/>
                </a:lnTo>
                <a:lnTo>
                  <a:pt x="0" y="21600"/>
                </a:lnTo>
                <a:lnTo>
                  <a:pt x="6658" y="10800"/>
                </a:lnTo>
                <a:close/>
              </a:path>
            </a:pathLst>
          </a:custGeom>
          <a:gradFill rotWithShape="0">
            <a:gsLst>
              <a:gs pos="0">
                <a:srgbClr val="6699cc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38560" y="2157480"/>
            <a:ext cx="1307880" cy="190476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87" y="0"/>
                </a:lnTo>
                <a:lnTo>
                  <a:pt x="21600" y="10800"/>
                </a:lnTo>
                <a:lnTo>
                  <a:pt x="15387" y="21600"/>
                </a:lnTo>
                <a:lnTo>
                  <a:pt x="0" y="21600"/>
                </a:lnTo>
                <a:lnTo>
                  <a:pt x="6213" y="10800"/>
                </a:lnTo>
                <a:close/>
              </a:path>
            </a:pathLst>
          </a:cu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0040" y="2170080"/>
            <a:ext cx="1307880" cy="190512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87" y="0"/>
                </a:lnTo>
                <a:lnTo>
                  <a:pt x="21600" y="10800"/>
                </a:lnTo>
                <a:lnTo>
                  <a:pt x="15387" y="21600"/>
                </a:lnTo>
                <a:lnTo>
                  <a:pt x="0" y="21600"/>
                </a:lnTo>
                <a:lnTo>
                  <a:pt x="6213" y="10800"/>
                </a:lnTo>
                <a:close/>
              </a:path>
            </a:pathLst>
          </a:cu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21160" y="2170080"/>
            <a:ext cx="1308240" cy="190512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87" y="0"/>
                </a:lnTo>
                <a:lnTo>
                  <a:pt x="21600" y="10800"/>
                </a:lnTo>
                <a:lnTo>
                  <a:pt x="15387" y="21600"/>
                </a:lnTo>
                <a:lnTo>
                  <a:pt x="0" y="21600"/>
                </a:lnTo>
                <a:lnTo>
                  <a:pt x="6213" y="10800"/>
                </a:lnTo>
                <a:close/>
              </a:path>
            </a:pathLst>
          </a:custGeom>
          <a:gradFill rotWithShape="0">
            <a:gsLst>
              <a:gs pos="0">
                <a:srgbClr val="496fe9"/>
              </a:gs>
              <a:gs pos="100000">
                <a:srgbClr val="66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50040" y="2157480"/>
            <a:ext cx="1308240" cy="190476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87" y="0"/>
                </a:lnTo>
                <a:lnTo>
                  <a:pt x="21600" y="10800"/>
                </a:lnTo>
                <a:lnTo>
                  <a:pt x="15387" y="21600"/>
                </a:lnTo>
                <a:lnTo>
                  <a:pt x="0" y="21600"/>
                </a:lnTo>
                <a:lnTo>
                  <a:pt x="6213" y="10800"/>
                </a:lnTo>
                <a:close/>
              </a:path>
            </a:pathLst>
          </a:custGeom>
          <a:solidFill>
            <a:srgbClr val="496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78560" y="2157480"/>
            <a:ext cx="1308240" cy="190476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87" y="0"/>
                </a:lnTo>
                <a:lnTo>
                  <a:pt x="21600" y="10800"/>
                </a:lnTo>
                <a:lnTo>
                  <a:pt x="15387" y="21600"/>
                </a:lnTo>
                <a:lnTo>
                  <a:pt x="0" y="21600"/>
                </a:lnTo>
                <a:lnTo>
                  <a:pt x="6213" y="10800"/>
                </a:lnTo>
                <a:close/>
              </a:path>
            </a:pathLst>
          </a:custGeom>
          <a:solidFill>
            <a:srgbClr val="496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120" y="2093760"/>
            <a:ext cx="20318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040" y="17524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30600" y="2093760"/>
            <a:ext cx="30477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26360" y="17524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31000" y="2093760"/>
            <a:ext cx="23112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86560" y="17654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Mailings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Two Steps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562720" y="1447560"/>
            <a:ext cx="3200400" cy="36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spcBef>
                <a:spcPts val="104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Two steps to create a triggered mailing: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419040" indent="0">
              <a:spcBef>
                <a:spcPts val="104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419040" indent="-419040">
              <a:spcBef>
                <a:spcPts val="1049"/>
              </a:spcBef>
              <a:buClr>
                <a:srgbClr val="0099ff"/>
              </a:buClr>
              <a:buSzPct val="110000"/>
              <a:buFont typeface="RotisSemiSans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Create a triggered segment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968720" cy="16444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809880" y="4114800"/>
            <a:ext cx="4557960" cy="18493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28600" y="4038480"/>
            <a:ext cx="3429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99ff"/>
              </a:buClr>
              <a:buSzPct val="110000"/>
              <a:buFont typeface="RotisSemiSans"/>
              <a:buAutoNum type="arabicPeriod" startAt="2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Create an advanced mailing using your triggered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Mailing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Step 1: Triggered Segment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5486400"/>
            <a:ext cx="7818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Create a new triggered segment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1222" t="0" r="0" b="0"/>
          <a:stretch/>
        </p:blipFill>
        <p:spPr>
          <a:xfrm>
            <a:off x="1219320" y="1447920"/>
            <a:ext cx="6561000" cy="3543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334120" y="2590920"/>
            <a:ext cx="13716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3138480" cy="533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105520" y="3581280"/>
            <a:ext cx="312408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920" y="2895480"/>
            <a:ext cx="45720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Mailing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Segment (2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867280" y="1752120"/>
            <a:ext cx="286560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Select insert trigger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rcRect l="1219" t="0" r="0" b="0"/>
          <a:stretch/>
        </p:blipFill>
        <p:spPr>
          <a:xfrm>
            <a:off x="533520" y="1752480"/>
            <a:ext cx="5122800" cy="39117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2644920" cy="7444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105520" y="3505320"/>
            <a:ext cx="2590560" cy="761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62320" y="3581280"/>
            <a:ext cx="274320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52480" y="3429000"/>
            <a:ext cx="60984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Mailing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Segment (3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89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Select the type of trigger, then insert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440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Mailing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Step 2: Advanced Mailing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81848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Select Advanced Mailings on the Mailings tab, then Triggered Mailing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rcRect l="1225" t="0" r="0" b="0"/>
          <a:stretch/>
        </p:blipFill>
        <p:spPr>
          <a:xfrm>
            <a:off x="838080" y="2438280"/>
            <a:ext cx="7371000" cy="30052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4191120" y="3657600"/>
            <a:ext cx="28191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36000" cy="33577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Mailings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Advanced Mailing(2)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71240" y="4495680"/>
            <a:ext cx="5257800" cy="220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4720" indent="0">
              <a:spcBef>
                <a:spcPts val="9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RotisSemiSans"/>
              </a:rPr>
              <a:t>In the Triggered Mailing Wizard: </a:t>
            </a:r>
            <a:endParaRPr b="1" lang="en-US" sz="2400" spc="-1" strike="noStrike">
              <a:solidFill>
                <a:srgbClr val="333333"/>
              </a:solidFill>
              <a:latin typeface="RotisSemiSans"/>
            </a:endParaRPr>
          </a:p>
          <a:p>
            <a:pPr lvl="1" marL="804600" indent="-358200">
              <a:spcBef>
                <a:spcPts val="499"/>
              </a:spcBef>
              <a:buClr>
                <a:srgbClr val="496fe9"/>
              </a:buClr>
              <a:buFont typeface="RotisSemiSans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Name the trigger 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 lvl="1" marL="804600" indent="-358200">
              <a:spcBef>
                <a:spcPts val="499"/>
              </a:spcBef>
              <a:buClr>
                <a:srgbClr val="496fe9"/>
              </a:buClr>
              <a:buFont typeface="RotisSemiSans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Select the trigger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 lvl="1" marL="804600" indent="-358200">
              <a:spcBef>
                <a:spcPts val="499"/>
              </a:spcBef>
              <a:buClr>
                <a:srgbClr val="496fe9"/>
              </a:buClr>
              <a:buFont typeface="RotisSemiSans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Select tracking options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 lvl="1" marL="804600" indent="-358200">
              <a:spcBef>
                <a:spcPts val="499"/>
              </a:spcBef>
              <a:buClr>
                <a:srgbClr val="496fe9"/>
              </a:buClr>
              <a:buFont typeface="RotisSemiSans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Select timing for trigger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 lvl="1" marL="804600" indent="-358200">
              <a:spcBef>
                <a:spcPts val="499"/>
              </a:spcBef>
              <a:buClr>
                <a:srgbClr val="496fe9"/>
              </a:buClr>
              <a:buFont typeface="RotisSemiSans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Select Content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2438280"/>
            <a:ext cx="22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6fe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2743200"/>
            <a:ext cx="22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6fe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3124080"/>
            <a:ext cx="22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6fe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3733920"/>
            <a:ext cx="22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6fe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57600" y="3733920"/>
            <a:ext cx="22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6fe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562360" cy="38685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Mailing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Sequential Maililing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5520" y="1752120"/>
            <a:ext cx="2667240" cy="59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Sequential mailing allows several mailings to be sent after a trigger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568440" indent="-27648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Example: series of mailings counting down to an event (conference, wedding, etc.)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Mailing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Date Trigger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81848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Use Date trigger to select a date field with an exact date and time, or an anniversary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Example: Exact date and time can be used to send additional messages to those who have recently joined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Example: Anniversary can be used to send special offers to those who have a birthday coming soon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530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Mailings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Action Trigger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4120" y="1371240"/>
            <a:ext cx="3170160" cy="64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Target those who have opened, clicked, visited any page or purchased after a mailing (or any mailing)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Example: send a thank-you mailing to everyone who purchased after receiving a particular mailing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46638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Mailings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Clickthrough Trigger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62040" y="4267080"/>
            <a:ext cx="7818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spcBef>
                <a:spcPts val="104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Target those who have clicked on a specific link—or any link 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Specify those who click on a particular URL, or any URL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Specify particular mailing, or any mailing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Specify whether it should send every time, or first time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46280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Enterprise Tracking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Action Tags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676520"/>
            <a:ext cx="7696080" cy="44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emiSans"/>
              </a:rPr>
              <a:t>What Are Action Ta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Automatically generated tags embedded in website that capture list member a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SemiSans"/>
              </a:rPr>
              <a:t>Four types of Action Ta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Interest 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Web Traffic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Purchase 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Member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4038480"/>
            <a:ext cx="4114800" cy="0"/>
          </a:xfrm>
          <a:prstGeom prst="line">
            <a:avLst/>
          </a:prstGeom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58428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576360" cy="325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638680" y="4800600"/>
            <a:ext cx="551160" cy="506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715000" y="5486400"/>
            <a:ext cx="471600" cy="496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133720" y="5410080"/>
            <a:ext cx="4114800" cy="0"/>
          </a:xfrm>
          <a:prstGeom prst="line">
            <a:avLst/>
          </a:prstGeom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6095880"/>
            <a:ext cx="4114800" cy="0"/>
          </a:xfrm>
          <a:prstGeom prst="line">
            <a:avLst/>
          </a:prstGeom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4724280"/>
            <a:ext cx="4114800" cy="0"/>
          </a:xfrm>
          <a:prstGeom prst="line">
            <a:avLst/>
          </a:prstGeom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Mailings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Clickstream Trigger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486400" y="2057400"/>
            <a:ext cx="3170160" cy="322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Target those who have visited a particular page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Example: send additional sale items to those who viewed  a specials page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6436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Mailings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Purchase Trigger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90440" y="4952520"/>
            <a:ext cx="8763120" cy="16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Target customers who have purchased a particular amount 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Example: send a mailing to those who purchased (or didn’t purchase) a certain amount after a mailing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479600" y="1447920"/>
            <a:ext cx="61848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Mailing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Purchase Trigger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638320" y="1371600"/>
            <a:ext cx="3505320" cy="62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Specify whether the trigger should pull those who puchased the amount: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lnSpc>
                <a:spcPct val="90000"/>
              </a:lnSpc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Since the last time the trigger was run (sent as an advanced mailing)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lnSpc>
                <a:spcPct val="90000"/>
              </a:lnSpc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Since forever (could end up receiving multiple emails)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lnSpc>
                <a:spcPct val="90000"/>
              </a:lnSpc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Since forever, reached for the first time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5499360" cy="30970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371600" y="5638680"/>
            <a:ext cx="7502400" cy="532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143000" y="3352680"/>
            <a:ext cx="441972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5638680"/>
            <a:ext cx="746748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3809880"/>
            <a:ext cx="609480" cy="1752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Triggered Mailings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Interest Trigger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4744800"/>
            <a:ext cx="7818480" cy="16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Target those who have shown a certain amount of interest by browsing your site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Example: target those with high interest points, but haven’t yet made a purchase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rcRect l="1209" t="0" r="0" b="0"/>
          <a:stretch/>
        </p:blipFill>
        <p:spPr>
          <a:xfrm>
            <a:off x="1066680" y="1447920"/>
            <a:ext cx="70120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742840" y="1676160"/>
            <a:ext cx="57373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ListManager Enterprise Overview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Interest Tracking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Web Traffic Analysi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Purchase Tracking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Member Update Tag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Triggered Mailing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Q &amp; A / In-depth discussion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Get a Copy of this Session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742840" y="1676160"/>
            <a:ext cx="57373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Go to: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indent="0">
              <a:lnSpc>
                <a:spcPct val="125000"/>
              </a:lnSpc>
              <a:spcBef>
                <a:spcPts val="64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600" spc="-1" strike="noStrike" u="sng">
                <a:solidFill>
                  <a:srgbClr val="0066ff"/>
                </a:solidFill>
                <a:uFillTx/>
                <a:latin typeface="RotisSemiSans"/>
                <a:hlinkClick r:id="rId1"/>
              </a:rPr>
              <a:t>ftp://ftp.lyris.com/training/7.8enterprise.zip</a:t>
            </a:r>
            <a:endParaRPr b="0" lang="en-US" sz="26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How’d we do?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2438280" y="1752480"/>
            <a:ext cx="604224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Please go to this URL and evaluate this training session: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RotisSemiSans"/>
              </a:rPr>
              <a:t>http://www.lyris.com/surveys/training_satisfaction.html</a:t>
            </a:r>
            <a:endParaRPr b="0" lang="en-US" sz="1800" spc="-1" strike="noStrike">
              <a:solidFill>
                <a:srgbClr val="333333"/>
              </a:solidFill>
              <a:latin typeface="RotisSemiSans"/>
            </a:endParaRPr>
          </a:p>
          <a:p>
            <a:pPr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742840" y="1676160"/>
            <a:ext cx="5737320" cy="40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ListManager Enterprise Overview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RotisSemiSans"/>
              </a:rPr>
              <a:t>Interest Tracking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Web Traffic Analysi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Purchase Tracking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Member Update Tag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Triggered Mailings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58680">
              <a:lnSpc>
                <a:spcPct val="125000"/>
              </a:lnSpc>
              <a:spcBef>
                <a:spcPts val="700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6699cc"/>
                </a:solidFill>
                <a:latin typeface="RotisSemiSans"/>
              </a:rPr>
              <a:t>Q &amp; A / In-depth discussion</a:t>
            </a:r>
            <a:endParaRPr b="0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Interest Tracking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Summary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818480" cy="43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What is Interest Tracking?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Records “interest events,” which occur when: 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A recipient visits a tracked Web page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A recipient takes a tracked action on your Web site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Helps you measure: 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List members’ interest in your products and services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lvl="2" marL="1239840" indent="-338040">
              <a:spcBef>
                <a:spcPts val="675"/>
              </a:spcBef>
              <a:buClr>
                <a:srgbClr val="b2b2b2"/>
              </a:buClr>
              <a:buFont typeface="Wingdings 2" charset="2"/>
              <a:buChar char="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RotisSemiSans"/>
              </a:rPr>
              <a:t>List members’ depth of relationship</a:t>
            </a:r>
            <a:endParaRPr b="0" lang="en-US" sz="1800" spc="-1" strike="noStrike">
              <a:solidFill>
                <a:srgbClr val="4d4d4d"/>
              </a:solidFill>
              <a:latin typeface="RotisSemiSans"/>
            </a:endParaRPr>
          </a:p>
          <a:p>
            <a:pPr marL="338040" indent="-338040">
              <a:spcBef>
                <a:spcPts val="1049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Two types of Interest Event information: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Interest Stage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  <a:p>
            <a:pPr lvl="1" marL="789120" indent="-338400">
              <a:spcBef>
                <a:spcPts val="90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RotisSemiSans"/>
              </a:rPr>
              <a:t>Interest Points</a:t>
            </a:r>
            <a:endParaRPr b="1" lang="en-US" sz="2400" spc="-1" strike="noStrike">
              <a:solidFill>
                <a:srgbClr val="4d4d4d"/>
              </a:solidFill>
              <a:latin typeface="RotisSemiSan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010280" y="3962520"/>
            <a:ext cx="1881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Interest Tracking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Interest Stage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818480" cy="14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spcBef>
                <a:spcPts val="104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RotisSemiSans"/>
              </a:rPr>
              <a:t>Shows how far/deep list member is into sales cycle</a:t>
            </a: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  <a:p>
            <a:pPr marL="289080" indent="0">
              <a:spcBef>
                <a:spcPts val="1049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800" spc="-1" strike="noStrike">
              <a:solidFill>
                <a:srgbClr val="333333"/>
              </a:solidFill>
              <a:latin typeface="RotisSemiSans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711360" y="3009600"/>
            <a:ext cx="5410080" cy="3200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6dee"/>
              </a:gs>
              <a:gs pos="100000">
                <a:srgbClr val="1e4b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1080" y="3581280"/>
            <a:ext cx="14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EAR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81880" y="411480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OPPING CAR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99480" y="4648320"/>
            <a:ext cx="18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RST-TIM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2800" y="5168880"/>
            <a:ext cx="145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YAL 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49960" y="2666880"/>
            <a:ext cx="162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66ff"/>
                </a:solidFill>
                <a:uFillTx/>
                <a:latin typeface="Arial"/>
              </a:rPr>
              <a:t>STAG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89720" y="31240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46480" y="29844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46480" y="3517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6480" y="4064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6480" y="4584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44600" y="51307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51520" y="6210360"/>
            <a:ext cx="21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MOST INTER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50080" y="262908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LEAST INTER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0840"/>
            <a:ext cx="8448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tisSemiSans"/>
              </a:rPr>
              <a:t>Interest Tracking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RotisSemiSans"/>
              </a:rPr>
              <a:t>Interest Points</a:t>
            </a:r>
            <a:endParaRPr b="1" lang="en-US" sz="3200" spc="-1" strike="noStrike">
              <a:solidFill>
                <a:srgbClr val="ffffff"/>
              </a:solidFill>
              <a:latin typeface="RotisSemi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0106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spcBef>
                <a:spcPts val="901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RotisSemiSans"/>
              </a:rPr>
              <a:t>Measures level of individual member interest in your Web site</a:t>
            </a:r>
            <a:endParaRPr b="1" lang="en-US" sz="2400" spc="-1" strike="noStrike">
              <a:solidFill>
                <a:srgbClr val="333333"/>
              </a:solidFill>
              <a:latin typeface="RotisSemiSans"/>
            </a:endParaRPr>
          </a:p>
          <a:p>
            <a:pPr marL="285840" indent="-285840">
              <a:spcBef>
                <a:spcPts val="901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RotisSemiSans"/>
              </a:rPr>
              <a:t>Points add up over life of list member</a:t>
            </a:r>
            <a:endParaRPr b="1" lang="en-US" sz="2400" spc="-1" strike="noStrike">
              <a:solidFill>
                <a:srgbClr val="333333"/>
              </a:solidFill>
              <a:latin typeface="RotisSemiSans"/>
            </a:endParaRPr>
          </a:p>
          <a:p>
            <a:pPr lvl="1" marL="628560" indent="-22932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More points means a hot lead (if prospect) 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 lvl="1" marL="628560" indent="-229320">
              <a:spcBef>
                <a:spcPts val="751"/>
              </a:spcBef>
              <a:buClr>
                <a:srgbClr val="66ccff"/>
              </a:buClr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RotisSemiSans"/>
              </a:rPr>
              <a:t>More points means loyal repeat visitor (if customer)</a:t>
            </a:r>
            <a:endParaRPr b="1" lang="en-US" sz="2000" spc="-1" strike="noStrike">
              <a:solidFill>
                <a:srgbClr val="4d4d4d"/>
              </a:solidFill>
              <a:latin typeface="RotisSemiSans"/>
            </a:endParaRPr>
          </a:p>
          <a:p>
            <a:pPr marL="285840" indent="-285840">
              <a:spcBef>
                <a:spcPts val="901"/>
              </a:spcBef>
              <a:buClr>
                <a:srgbClr val="0099ff"/>
              </a:buClr>
              <a:buSzPct val="110000"/>
              <a:buFont typeface="Wingdings 2" charset="2"/>
              <a:buChar char="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RotisSemiSans"/>
              </a:rPr>
              <a:t>Example:</a:t>
            </a:r>
            <a:endParaRPr b="1" lang="en-US" sz="2400" spc="-1" strike="noStrike">
              <a:solidFill>
                <a:srgbClr val="333333"/>
              </a:solidFill>
              <a:latin typeface="RotisSemiSans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171880" y="3962520"/>
          <a:ext cx="4800600" cy="2824200"/>
        </p:xfrm>
        <a:graphic>
          <a:graphicData uri="http://schemas.openxmlformats.org/drawingml/2006/table">
            <a:tbl>
              <a:tblPr/>
              <a:tblGrid>
                <a:gridCol w="2900160"/>
                <a:gridCol w="190044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1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RotisSemiSans"/>
                        </a:rPr>
                        <a:t>Web Page/Ac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1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RotisSemiSans"/>
                        </a:rPr>
                        <a:t>Point Valu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Home Pa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Product Landing Pa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Product Main Pa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Customer Li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Contact Pa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Pric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Retur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RotisSemiSans"/>
                        </a:rPr>
                        <a:t>-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14:29:31Z</dcterms:created>
  <dc:creator>wendy</dc:creator>
  <dc:description/>
  <dc:language>en-US</dc:language>
  <cp:lastModifiedBy>wendy</cp:lastModifiedBy>
  <dcterms:modified xsi:type="dcterms:W3CDTF">2003-12-19T21:03:39Z</dcterms:modified>
  <cp:revision>12</cp:revision>
  <dc:subject/>
  <dc:title>Lyris ListManager 7.0</dc:title>
</cp:coreProperties>
</file>